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4.png" ContentType="image/png"/>
  <Override PartName="/ppt/media/image10.wmf" ContentType="image/x-wmf"/>
  <Override PartName="/ppt/media/image25.jpeg" ContentType="image/jpeg"/>
  <Override PartName="/ppt/media/image7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27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91D229-1AED-47D0-869C-451C1D2B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B03F05-1421-46AE-8378-4A7BA702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D2D7BB-018E-48E6-8751-0B602535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A14AE6-C242-4229-88D9-E54A422A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87AD8F-25DF-4AB8-B05E-A3B6681D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46F2DCF-4EE5-45BB-9EFD-5041FD96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C9D062-0CD1-45D8-B63A-59D9E957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E67FB3-E4E4-474E-9E49-613BA1569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9E4518-B8DC-4330-991C-8054C0CA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4B27C7-E955-4B16-9836-10CC6B553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85C8-4639-4BCE-8266-AD7E65494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E2F5-9251-4E77-87FD-D9B12FC4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A3A9-9488-4836-B200-D731D35E4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2C0F-EAF1-4A36-A8E2-08C27326F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7ADC-0429-4B91-8F36-A5F7B3A30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BB3E-A563-4D43-987B-AE27408C2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8BFC-623A-40F7-B512-222242975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D77A-D1BB-4357-BA80-5BE16A49A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1294-D312-472D-9A32-9B158FAB6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2F47-3DF7-4307-A9F8-D83A6ED0B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2031-4374-4E51-A252-3FDD9718D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F967-607A-4389-97AE-002C4B6CA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9B0-7B68-4300-9B66-8EB2F29883BB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46/Desktop" TargetMode="External"/><Relationship Id="rId2" Type="http://schemas.openxmlformats.org/officeDocument/2006/relationships/hyperlink" Target="file:///C:/Documents%20and%20Settings/u46/Desktop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lhs4W4kX2uo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C78A-51E2-4927-A07F-21AF5D15F9C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46680" y="1270080"/>
            <a:ext cx="39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595"/>
                </a:solidFill>
                <a:latin typeface="Arial"/>
              </a:rPr>
              <a:t>Creating American Foreig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862520" y="2205000"/>
            <a:ext cx="378468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w should the United States conduct foreign polic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finition of  Foreign Poli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vernment's strategy in dealing with other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848120" y="852480"/>
            <a:ext cx="138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GOV_SE_CH17_Page_02.jpg"/>
          <p:cNvPicPr/>
          <p:nvPr/>
        </p:nvPicPr>
        <p:blipFill>
          <a:blip r:embed="rId1"/>
          <a:srcRect l="0" t="0" r="3683" b="0"/>
          <a:stretch/>
        </p:blipFill>
        <p:spPr>
          <a:xfrm>
            <a:off x="0" y="606600"/>
            <a:ext cx="4572000" cy="625140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9"/>
          <p:cNvSpPr/>
          <p:nvPr/>
        </p:nvSpPr>
        <p:spPr>
          <a:xfrm flipH="1">
            <a:off x="457200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166C-7968-40C0-9EF0-021D89D2773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7840" y="5305320"/>
            <a:ext cx="8394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ow be briefed on the North Korean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th Korea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ssile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8031240" y="4627440"/>
            <a:ext cx="473040" cy="471600"/>
            <a:chOff x="8031240" y="4627440"/>
            <a:chExt cx="473040" cy="471600"/>
          </a:xfrm>
        </p:grpSpPr>
        <p:sp>
          <p:nvSpPr>
            <p:cNvPr id="90" name="Oval 4"/>
            <p:cNvSpPr/>
            <p:nvPr/>
          </p:nvSpPr>
          <p:spPr>
            <a:xfrm>
              <a:off x="8031240" y="4627440"/>
              <a:ext cx="47304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>
              <a:off x="8218080" y="4812480"/>
              <a:ext cx="10368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>
              <a:off x="8187840" y="4784400"/>
              <a:ext cx="162720" cy="16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6"/>
          <p:cNvSpPr/>
          <p:nvPr/>
        </p:nvSpPr>
        <p:spPr>
          <a:xfrm>
            <a:off x="7541280" y="42750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 Track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7" descr="Boardroom"/>
          <p:cNvPicPr/>
          <p:nvPr/>
        </p:nvPicPr>
        <p:blipFill>
          <a:blip r:embed="rId3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1536840" y="1928880"/>
            <a:ext cx="615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a  foreign policy crisi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U.S.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ther additional covert intelligence about North Korea’s nuclear weapon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 summit with leaders from the US and North Korea and other major nations to encourage peaceful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se economic sanctions on North Korea and any country who provides support for North Ko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unch a military strike and bomb suspected nuclear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de North Korea, depose the leader, and pave the way for democratic 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DC5-ABE3-40F0-9387-EBF3AAC78DB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7840" y="5451480"/>
            <a:ext cx="83948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a foreign policy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0DA0-68DD-410B-8F2A-43C35FEB796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72240" y="390600"/>
            <a:ext cx="27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GOV_OT_CH17_Page_7"/>
          <p:cNvPicPr/>
          <p:nvPr/>
        </p:nvPicPr>
        <p:blipFill>
          <a:blip r:embed="rId1"/>
          <a:srcRect l="1096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3DB-06A0-4B82-8309-BE39C0B42CD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772240" y="390600"/>
            <a:ext cx="27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GOV_OT_CH17_Page_8"/>
          <p:cNvPicPr/>
          <p:nvPr/>
        </p:nvPicPr>
        <p:blipFill>
          <a:blip r:embed="rId1"/>
          <a:srcRect l="11089" t="0" r="0" b="0"/>
          <a:stretch/>
        </p:blipFill>
        <p:spPr>
          <a:xfrm>
            <a:off x="527040" y="388800"/>
            <a:ext cx="4341960" cy="63169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2EA-3F56-482C-AAC0-9537FC41507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017800" y="525600"/>
            <a:ext cx="50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GOV_OT_CH17_Page_9"/>
          <p:cNvPicPr/>
          <p:nvPr/>
        </p:nvPicPr>
        <p:blipFill>
          <a:blip r:embed="rId1"/>
          <a:srcRect l="0" t="11402" r="0" b="0"/>
          <a:stretch/>
        </p:blipFill>
        <p:spPr>
          <a:xfrm>
            <a:off x="1216080" y="1285920"/>
            <a:ext cx="6669000" cy="45687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4D6-1F00-414B-9DEE-8B66BF0DE51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97400" y="774720"/>
            <a:ext cx="54226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late 2007, U.S. leaders and diplomats continued to pressure foreign governments to crack down on counterfeiting and pi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artment of Commerce continued its campaign to teach consumers how to protect themselves from counterfeited and pirated go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these attempts, widespread counterfeiting and piracy of U.S. goods continued, posing a hardship on the U.S.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GOV_OT_CH17_Page_7"/>
          <p:cNvPicPr/>
          <p:nvPr/>
        </p:nvPicPr>
        <p:blipFill>
          <a:blip r:embed="rId1"/>
          <a:srcRect l="10938" t="0" r="0" b="0"/>
          <a:stretch/>
        </p:blipFill>
        <p:spPr>
          <a:xfrm>
            <a:off x="295200" y="884160"/>
            <a:ext cx="267804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9EF-5525-4E86-A0D5-6B539A15D4A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476520" y="793800"/>
            <a:ext cx="54230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304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irteen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we watch this excerpt, 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issue and the countries involved or potential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 is this an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soft and/or hard policy tools suggested to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soft and/or hard policy tools attempted  by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actual and potential consequences of thos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choice or choices made by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choice would you have made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600120"/>
            <a:ext cx="3352680" cy="625788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500280" y="793800"/>
            <a:ext cx="549756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partner. With your partner, create a policy recommendation to present at the upcoming NSC meeting by choosing one or more of the options on the handout or by creating alternative op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reating your recommendation, prepare a spokesperson to defend it at the upcoming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EPARAT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8D7-3AD4-413D-9353-93AEB817B89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0" y="5698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GOV_OT_CH17_Page_1"/>
          <p:cNvPicPr/>
          <p:nvPr/>
        </p:nvPicPr>
        <p:blipFill>
          <a:blip r:embed="rId1"/>
          <a:srcRect l="11130" t="0" r="0" b="0"/>
          <a:stretch/>
        </p:blipFill>
        <p:spPr>
          <a:xfrm>
            <a:off x="0" y="1081080"/>
            <a:ext cx="3298680" cy="52894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683-5BD3-4CFE-8F28-AE53C0A409A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76520" y="5283360"/>
            <a:ext cx="55371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wo goals do you think are the most important for the United States to pursue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wo goals do you think are the least important for the United States to pursue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LM_CH17_Notebook Guide 17_Page_1"/>
          <p:cNvPicPr/>
          <p:nvPr/>
        </p:nvPicPr>
        <p:blipFill>
          <a:blip r:embed="rId1"/>
          <a:srcRect l="7943" t="65329" r="51311" b="10526"/>
          <a:stretch/>
        </p:blipFill>
        <p:spPr>
          <a:xfrm>
            <a:off x="4272120" y="1784520"/>
            <a:ext cx="3997080" cy="30654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Picture 7" descr="GOV_SE_CH17_Page_02.jpg"/>
          <p:cNvPicPr/>
          <p:nvPr/>
        </p:nvPicPr>
        <p:blipFill>
          <a:blip r:embed="rId2"/>
          <a:srcRect l="0" t="0" r="3683" b="0"/>
          <a:stretch/>
        </p:blipFill>
        <p:spPr>
          <a:xfrm>
            <a:off x="0" y="606600"/>
            <a:ext cx="34765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57A-E45E-4BE6-9268-037855EDC7D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GOV_OT_CH17_Page_4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AE7B-9844-4081-A20D-7C47D0C6264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GOV_OT_CH17_Page_5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B3C-5956-441D-91A4-CE95EEFE672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GOV_OT_CH17_Page_6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C84-A54A-4C41-949B-D4903C168F0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492360" y="785880"/>
            <a:ext cx="54230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late 2007, ethnic cleansing continued in Darf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appeals by the president and secretary of state, Sudan would not allow UN peacekeeping forces into the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y 2007, the United States imposed new sanctions against Sudan and placed restrictions on foreign companies that did business with that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ssued an advisory warning U.S. citizens of the dangers of traveling to Su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er 2007, Sudan agreed to allow a UN peacekeeping force into Darf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GOV_OT_CH17_Page_4"/>
          <p:cNvPicPr/>
          <p:nvPr/>
        </p:nvPicPr>
        <p:blipFill>
          <a:blip r:embed="rId1"/>
          <a:srcRect l="11063" t="0" r="0" b="0"/>
          <a:stretch/>
        </p:blipFill>
        <p:spPr>
          <a:xfrm>
            <a:off x="295200" y="893880"/>
            <a:ext cx="267660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971-2DB6-483A-AA99-E913A0A745A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476520" y="793800"/>
            <a:ext cx="54230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77840" y="5337000"/>
            <a:ext cx="8643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three foreign policy scenari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987-5E82-432A-A213-62413FA3C52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2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BA5-80CB-49FA-83AC-43DC67918BD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27120" y="2724120"/>
            <a:ext cx="415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yne, insert Transparency 17A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GOV_OT_CH17_Page_1"/>
          <p:cNvPicPr/>
          <p:nvPr/>
        </p:nvPicPr>
        <p:blipFill>
          <a:blip r:embed="rId1"/>
          <a:srcRect l="11130" t="0" r="0" b="0"/>
          <a:stretch/>
        </p:blipFill>
        <p:spPr>
          <a:xfrm>
            <a:off x="527040" y="390600"/>
            <a:ext cx="433548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2C4-8804-44FF-84C3-0EF245F3234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GOV_OT_CH17_Page_2"/>
          <p:cNvPicPr/>
          <p:nvPr/>
        </p:nvPicPr>
        <p:blipFill>
          <a:blip r:embed="rId1"/>
          <a:srcRect l="9092" t="0" r="0" b="0"/>
          <a:stretch/>
        </p:blipFill>
        <p:spPr>
          <a:xfrm>
            <a:off x="527040" y="390600"/>
            <a:ext cx="4335480" cy="617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5D29-34E5-4859-ADA0-0D6E3CFE257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GOV_OT_CH17_Page_3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06600"/>
            <a:ext cx="3352680" cy="62514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AE4-3AFB-4BA5-AC1F-65676ACFB66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95600" y="787320"/>
            <a:ext cx="54230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ario you just analyzed occurred in October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tense diplomatic negotiations with British and U.S. leaders, Muammar al-Gaddafi admitted that Libya had developed a secret nuclear weapons program over several dec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ya agreed to dismantle the program and allow international inspectors to oversee the destruction of its nuclear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policy analysts thought that Gaddafi ’s decision was based on Libya’s lack of preparation for a military confrontation with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74640" y="1343160"/>
            <a:ext cx="1741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yne, insert Transparency 17A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GOV_OT_CH17_Page_1"/>
          <p:cNvPicPr/>
          <p:nvPr/>
        </p:nvPicPr>
        <p:blipFill>
          <a:blip r:embed="rId1"/>
          <a:srcRect l="11183" t="0" r="0" b="0"/>
          <a:stretch/>
        </p:blipFill>
        <p:spPr>
          <a:xfrm>
            <a:off x="295200" y="892080"/>
            <a:ext cx="2678040" cy="3903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lobalization – a move toward more open free trade, travel, and communication among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cy – practice of managing communication and relationships between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mbassador – diplomatic official representing one country to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tic immunity – international law that protects diplomats and their families from being arrested in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01D-E45E-45F4-B120-FC2DCADA6BD6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606600"/>
            <a:ext cx="3352680" cy="62514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2E78-8949-4441-A17A-A69EB3B0457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476520" y="793800"/>
            <a:ext cx="55342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tic recognition – official acceptance of a regime as the legitimate government of its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mmit – a meeting of high ranking officials to discuss matters of great importance to thei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nction – an action taken by one or more countries to pressure another country into changing policies or following internation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EF5-9DFC-4826-9447-3729221153AB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65240" y="838080"/>
            <a:ext cx="89787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4D5-93DF-4251-93D0-AD411CAB142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305080" y="2498760"/>
            <a:ext cx="553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71080" y="5149800"/>
            <a:ext cx="45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cy, Summ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y, Trade Rela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ign Aid, Cultural Ex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477040" y="5149800"/>
            <a:ext cx="380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igence, Covert A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cott, Sanction,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ance, Armed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184920" y="3200400"/>
            <a:ext cx="27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st wing epis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939960"/>
            <a:ext cx="6400800" cy="53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Dircks\AppData\Local\Microsoft\Windows\Temporary Internet Files\Content.IE5\CK8HTBHZ\MP900442432[1].jpg"/>
          <p:cNvPicPr/>
          <p:nvPr/>
        </p:nvPicPr>
        <p:blipFill>
          <a:blip r:embed="rId2"/>
          <a:stretch/>
        </p:blipFill>
        <p:spPr>
          <a:xfrm>
            <a:off x="6477120" y="1447920"/>
            <a:ext cx="2455920" cy="12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Dircks\AppData\Local\Microsoft\Windows\Temporary Internet Files\Content.IE5\D2HT5V4F\MP900442235[1].jpg"/>
          <p:cNvPicPr/>
          <p:nvPr/>
        </p:nvPicPr>
        <p:blipFill>
          <a:blip r:embed="rId3"/>
          <a:stretch/>
        </p:blipFill>
        <p:spPr>
          <a:xfrm>
            <a:off x="7162920" y="4724280"/>
            <a:ext cx="1523880" cy="203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Dircks\AppData\Local\Microsoft\Windows\Temporary Internet Files\Content.IE5\JUX3L5XR\MC900183754[1].wmf"/>
          <p:cNvPicPr/>
          <p:nvPr/>
        </p:nvPicPr>
        <p:blipFill>
          <a:blip r:embed="rId4"/>
          <a:stretch/>
        </p:blipFill>
        <p:spPr>
          <a:xfrm>
            <a:off x="7054920" y="2819520"/>
            <a:ext cx="17398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6000" y="800280"/>
            <a:ext cx="5530680" cy="532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Dircks\AppData\Local\Microsoft\Windows\Temporary Internet Files\Content.IE5\E5NPO0YH\MC900312284[1].wmf"/>
          <p:cNvPicPr/>
          <p:nvPr/>
        </p:nvPicPr>
        <p:blipFill>
          <a:blip r:embed="rId2"/>
          <a:stretch/>
        </p:blipFill>
        <p:spPr>
          <a:xfrm>
            <a:off x="7012080" y="1600200"/>
            <a:ext cx="687240" cy="11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Dircks\AppData\Local\Microsoft\Windows\Temporary Internet Files\Content.IE5\CK8HTBHZ\MC900048445[1].wmf"/>
          <p:cNvPicPr/>
          <p:nvPr/>
        </p:nvPicPr>
        <p:blipFill>
          <a:blip r:embed="rId3"/>
          <a:stretch/>
        </p:blipFill>
        <p:spPr>
          <a:xfrm>
            <a:off x="6019920" y="3048120"/>
            <a:ext cx="2423880" cy="1827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Dircks\AppData\Local\Microsoft\Windows\Temporary Internet Files\Content.IE5\D2HT5V4F\MC900215080[1].wmf"/>
          <p:cNvPicPr/>
          <p:nvPr/>
        </p:nvPicPr>
        <p:blipFill>
          <a:blip r:embed="rId4"/>
          <a:stretch/>
        </p:blipFill>
        <p:spPr>
          <a:xfrm>
            <a:off x="6012000" y="4948200"/>
            <a:ext cx="26319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58640" y="1919160"/>
            <a:ext cx="822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7:35:31Z</dcterms:created>
  <dc:creator>TCI</dc:creator>
  <dc:description/>
  <dc:language>en-US</dc:language>
  <cp:lastModifiedBy>Illinois School District U-46</cp:lastModifiedBy>
  <cp:lastPrinted>2007-08-24T20:48:01Z</cp:lastPrinted>
  <dcterms:modified xsi:type="dcterms:W3CDTF">2013-11-12T13:19:58Z</dcterms:modified>
  <cp:revision>463</cp:revision>
  <dc:subject/>
  <dc:title>PowerPoint Presentation</dc:title>
</cp:coreProperties>
</file>